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EEA05-EA62-4B5F-BF64-DF33998FE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FC344-AF40-47ED-899B-368E84E45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84D851-1B10-44F5-8461-8FD7B78DA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C38444-DCA3-4EAC-AF94-DD0DCC360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7D4771-AEF5-446A-B7F6-08C7A153C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BDDBDF-B911-48BE-9372-9FD926C0A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BE5FCA-C64E-485A-B356-855774F07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2BB26E-AF7D-4039-81D5-8CD9CBDA2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A864A0-DB9B-441F-B518-74FD45AB6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BD8F18-31DD-4B03-9BB4-B5A4B1F2B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437CB9-568C-4EC1-AABA-3E3228444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EB7FF9-FC2E-4979-8410-977B8CDA0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57147-4663-477C-8CB7-35101A159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24F53A-F20E-4C93-931B-44E548D9A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9BEDC4-782F-4A5D-AE26-B19F70F79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5D129D-D749-4019-8B86-1CFB67C8E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F18C48-711B-465F-90B8-EC6248E56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27D72E-9B15-4C39-A051-512601B64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EE0109-958C-42E3-AD70-63944CD5C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A37972-34C1-49BB-A8B0-2FAF208F6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D99801-33A6-4199-8590-450EFE80C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C2D026-164A-45A1-90C3-F87F9D7C3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20D8DD-BB82-4851-997C-B08325C62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70504-4187-45B6-AC04-668EEEB8F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8529F8-E612-4A05-BFB1-253593CA5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64EF77-1BA1-45EF-91AD-69F577CB3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2CDBA6-3CF8-4E2B-8454-AB6947B0B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34E6E0-7C1E-4663-B1D9-5BBD3DB62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021DF1-EA8C-4045-9B30-D535BF8F9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317A9E-D496-4F1E-AAC4-9F1962661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5F0917-D894-4310-9B99-50F3AFF7B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A14944-6AD8-444C-9D44-3F212CB24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B79F17-46CF-4F07-BBB3-29FC9219A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2136A2-F1EF-4B60-AD3D-9A0AE247B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F3C4B-9B71-4AD8-A696-BDCE3FAFE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8DD5DE-10F0-4780-A35C-B8CB7D6A9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F3D912-8D7E-463A-9AC1-37D831A8C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99297D-5671-4A53-9135-7CFB380F6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2DE548-DEDD-45C7-8E7E-FDEC89C69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9DDED3-432A-41FC-A7F7-C0BBB17E1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8EAE4D-DD1C-4B39-A353-D7599B9F3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C9991D-5722-43F5-9BFD-AD522AD66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581E35-8EC5-45F9-880B-E174C34BB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8DBDB7-6830-4AAF-BD34-4ABC37810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BECAB8-4CAC-44B0-9418-D0AD3B2B3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2053A-2A0E-4D96-88E6-5263F7FEF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B7C15F-B17A-47E4-A21E-EE200C2FC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3BF168-6682-4422-B3FB-42DADABBB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B01907-8C2D-43EE-AFC6-A568C5584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79F1A9-1CFE-4AAE-9686-5644C6AA6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5584AA-E030-4C0C-948D-157BF9D5B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480DD-02AB-4C44-9FA8-85D4D1E64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5A74C-D53A-4F8A-97F9-3040FC078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EFC87-D38A-4918-B231-FD0D95856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47E67-EBE3-4187-87A2-F07A200A6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67A9A-E023-4ED6-864F-71AADD7C7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6F353-3A70-4594-A5D9-88A203FDC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E74ED-BCF9-472B-9621-E2B26280B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7F075-8616-4B79-A068-503DF7148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583BE-1246-4721-8264-976F14D70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2BC1C-882C-45EA-9092-1ADE09998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61F0F-D78D-4D7D-BF57-BC3A00211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D483BE-47E9-4F97-B053-0DE1DDB8D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FFBAC6-C811-466C-BB98-00EAD6419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BA04DF-29AE-4B8B-934D-DC0D1664B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C94082-2A5C-4135-BAFD-6B18F2BE2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759956-BE3E-488B-950D-483EF0C52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8E106-6BB7-4883-92E9-8CDE52FDA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CD9774-C6CC-4384-9392-6581DFABF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908B92-EC8D-4F6D-BD40-F996DE73E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446388-A92D-4285-972A-1B7F73AC8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241DCE-45A5-4295-822F-69F3ADB6A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A947FF-1AB9-4D33-99FC-543A81A67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F2E2E4-A8E6-4AC0-91E6-9A2575588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5920A6-C87C-4F2C-A684-D37749F47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24BE4A-14A7-4170-AF2A-9D429D594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DD8945-4861-4578-846C-3AC87CBAB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B781E8-154E-4938-A4CB-58E4E77CF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51437-4CD8-410E-92F1-7BB7642CA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7EF094-344E-4E84-9199-EDF33B23F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23B0F9-3CB9-4412-A5AB-9D6F9FFEC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988DCF-DB2C-41F0-9435-88695631E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F23681-81C9-4AA8-94DF-D85D17467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33D1F9-150D-4C35-8723-980B6F8CA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55E6BB-1E6B-4BDB-ADC5-B0F12BF61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A08826-5E42-4AAB-999F-3D1B823B7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BE88DD-4F18-4ECA-B268-F72F4BFD9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B2A985-5E7E-4B20-81EB-B9C4CE823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393F85-8A7F-41EE-9DE9-A06179527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02FE0-05E2-49DE-8AAD-91542C64E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053AC7-06ED-49C0-9466-7C9374888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599DE9-F43F-4360-AA2C-12897AADF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CE0B1D-7397-41B4-95AB-F3979A48A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C5018A-E96C-4274-88D1-EE61446F0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B212F7-B7B5-49E3-85FB-AD49248EA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0BC8F4-362E-4D77-9140-6012A2218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E490E0-928A-4800-8516-A93AB9591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15EBE3-CEA0-4E3B-9004-C02BBCA02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60C113-A1F6-4906-B7C6-817145E7F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34E078-C21D-407A-80B7-EE091EC61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0EC0B-CEB7-4AD1-801E-11F5E9F9F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6CE5F8-215A-4134-A560-7A49B1E2B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FA556D-21C4-4F3D-8DB9-F84676CBA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B505C8-94C9-4097-BFC7-5213DD500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CB8DEF-5623-4F77-A41F-9F1AFEE4F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A24591-7701-4782-AE5B-349A5A62E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BCECBF-6202-4EA9-9D07-539535B71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661210-77BD-4773-9CBE-0C79D1C0E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A75F1A-6887-4A11-92F7-4118119A9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ACC74C-4178-4EAA-A3C5-B826CC48A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E5A6F8-05E9-49D7-9EDA-6AE8C5BD7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C5CA1-54B9-4BAA-94D5-23F0417E4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37E1E6-323A-40BB-8511-9D0995003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535BF4-6D23-4CFE-AF03-813C1B7EC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0DD2DF-2CA3-4CDF-B44F-3EA165D68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A3D149-9946-4433-8B33-A0570E950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868E10-9434-45FC-86A8-D7B186FFA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13E239-D7BE-4AE9-B2D4-D9A979E0D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946232-C267-4D97-81A5-12EBA92C7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BF50FD-E1FB-4F79-95EB-1D08B9D3B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5D7008-4DC3-4695-984C-6FDFFEFA1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D5B7C4-D95E-471A-A8E8-D4DD80F92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B84C5-6243-4688-AC0F-EAA3EB14D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C74030-1FA2-43A9-A10E-D8E0AA8F7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D64B32-DEC2-4414-8A6D-215D3A1AE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F285D6-906F-487E-88AB-AD9531F4B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1636D1-B952-4E3D-989D-F942AD027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C7B7C7-7257-4FC2-9EB7-EFADEAE4D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E89948-A02B-40D7-83DD-C701FA5DB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590CCC-0085-484F-BF90-DE2598170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955FB9-691F-4A16-A43B-477FC132C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FD3912-DEE8-4CA8-9640-8BE8E1AA4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FB79B5-4CB6-4682-8338-C9FD365CE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2512A-1AA5-4395-9AD4-3690E3548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837FC7-266B-459E-AEC9-F6E9659C5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D18476-C59D-4F39-BC11-8ECC71E8E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52EA7C-3DF9-4AB0-857D-555F76726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071916-FD52-42C3-ABAD-967193CC9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BF19DD-9049-48BF-84C7-8DF2540BD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19F844-6519-45FB-A40B-AD2549101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CC7279-A77C-4A1E-A700-20FFC2E8E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B9E633-FC91-4306-9AAD-8C4F0F0BD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A27290-BB72-4CA4-B0AD-58A7349F9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84F815-142E-47DA-B945-1504A9ECA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41817-DD32-4EE4-B844-B858F5274B4B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DFFF5-CF3C-4A37-AE76-019EA2D5625A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41F7B-4A27-465C-98EB-C7825B83615A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146F8-24BD-4DAD-8632-B9289A1FA8F3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E982D-E8BD-4475-A173-8208769FF24F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5FC4C-79E8-4C14-8BB3-3CBAC5FCB1A8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279E3-6CA9-47BD-AB9F-2C968C81D168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D4192-9DA5-4287-8E2C-4A8CD4B11EB4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F806A-5AD3-4586-A412-3D7FCEA73B18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D0A68-D954-4E6C-B96E-F0D1FCFF9BCE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7534A-B093-4497-A1B0-47C6881BACF0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A3E15-162E-4B23-AFC7-186FBE8C06CD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255 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Č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i sa zídeme tam spolu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Či sa zídeme tam spolu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kde Pána miesto chystá nám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tam, kde nieto strastí, bôľu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zdroj kde blaha je on sám?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Áno, tam, áno, tam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zídeme sa spolu zas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v ríši svetla, nebies krás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tam pred tvárou Bo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ž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ou raz.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Či pred trónom Baránkovým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raz sa všetci stretnem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kde ho chválospevom novým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spolu slávi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ť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 budeme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Áno, tam, áno, tam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zídeme sa spolu zas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v ríši svetla, nebies krás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tam pred tvárou Bo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ž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ou raz.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Či to mesto uvidím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v ktorom vládne láska len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a či nás Pán všetkých prijme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v onen slávny ve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ľ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ký de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ň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?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Áno, tam, áno, tam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zídeme sa spolu zas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v ríši svetla, nebies krás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tam pred tvárou Bo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ž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ou raz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DUMAS Ing. Dušan Bielik</cp:lastModifiedBy>
  <dcterms:modified xsi:type="dcterms:W3CDTF">2025-09-03T17:16:51Z</dcterms:modified>
  <cp:revision>22</cp:revision>
  <dc:subject/>
  <dc:title>Je veľký náš Pán, on slávy je Kráľ Nech do všetkých strán  spev vrúcnych znie chvál.</dc:title>
</cp:coreProperties>
</file>